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9A7-C909-4971-AA69-91D868914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BDC0-895C-4F1E-9DA0-50BD16E74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AB0-8668-4A50-B263-02830DD2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5EA-4E00-4CD4-8D85-60B53FE7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9EE-7627-4BD9-8E12-B89B0371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13C-3190-4A80-ADE3-987C7FCD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EF5-0D71-48F2-AAC8-E6B844F1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F80-1F1B-4482-B7B0-2C53207C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D3C-76FF-4ADE-A310-716A8962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FD0-075C-46A3-AF95-886A8902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037-F0FF-4CE5-A0A0-1C9CF31B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A2C-7738-4A92-96F7-5365CE1B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3EE-AC6A-458D-872C-85A79D7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23E-4110-4C06-9724-FC776DC1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E14F-2B4D-4384-8E11-DBB335E9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yssa 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lyssa Edmond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lyssa Edmo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lyssa Edmo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,y Buenos dias, Mi nombre es Alyssa. Yo vivo en New York. Yo tengo catorce años. Yo tengo una hermanas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5:57Z</dcterms:modified>
  <cp:revision>104</cp:revision>
  <dc:subject/>
  <dc:title>Profile</dc:title>
</cp:coreProperties>
</file>